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ABF7E-7949-463E-A594-1DB92F0E7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7D1AA-F814-42D9-A88F-438E5210F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EC5A0-7B3B-4F3A-A2E7-5F9147129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9CE71-8A25-4283-9A75-A47DCB868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2F8E62-EFE9-4338-BCB3-B33F202AB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F1EFD-97FC-4861-8DB3-AD99097A3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55BAD-0FE4-44F8-8583-3393779F2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DD675-DAAC-4CAB-8711-A5A2288B7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5AE52-8703-4066-A52D-E23786C32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E639F-CBD8-47EA-9E58-7F32BAC50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96623-48AE-415C-B57D-16F27F2EE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69D64-785A-44C2-AE71-2669DE984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A82DE-833C-4556-890B-43EE99C85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31678-1DD3-490E-9330-E1F786F3C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E2096-D435-46DA-9AC6-4E459DCCA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E0FBA4-5098-4D1A-A786-FEEE17A249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1F4785-1E6B-404A-A42E-9C283F259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ED704-399B-4C20-A8C0-0CE9B7FD6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61014-6699-44B3-97FC-C1F430FC6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78C5A-7FCB-4D06-B3DB-184376B79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EACA4-1333-40D2-9315-DC4083A83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53305-6C05-4FF4-B743-C3CB498FD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4594D-21D4-4E41-9C4E-E940FA108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D85B0-12E3-419B-B7F0-0352ABDAB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B0AAD-6BF7-4DE1-BFC6-721A47C0006A}"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C66E0-84DC-40AC-B35B-5DA0BBFC36DF}"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7617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6cbff"/>
                </a:solidFill>
                <a:latin typeface="Tahoma"/>
              </a:rPr>
              <a:t>The First Wave</a:t>
            </a:r>
            <a:endParaRPr b="0" lang="en-US" sz="4400" spc="-1" strike="noStrike">
              <a:solidFill>
                <a:srgbClr val="ffffff"/>
              </a:solidFill>
              <a:latin typeface="Tahoma"/>
            </a:endParaRPr>
          </a:p>
        </p:txBody>
      </p:sp>
      <p:sp>
        <p:nvSpPr>
          <p:cNvPr id="83" name="PlaceHolder 2"/>
          <p:cNvSpPr>
            <a:spLocks noGrp="1"/>
          </p:cNvSpPr>
          <p:nvPr>
            <p:ph type="subTitle"/>
          </p:nvPr>
        </p:nvSpPr>
        <p:spPr>
          <a:xfrm>
            <a:off x="1371600" y="2971800"/>
            <a:ext cx="6400800" cy="1752480"/>
          </a:xfrm>
          <a:prstGeom prst="rect">
            <a:avLst/>
          </a:prstGeom>
          <a:noFill/>
          <a:ln w="0">
            <a:noFill/>
          </a:ln>
          <a:effectLst>
            <a:outerShdw dist="12727" dir="270000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cbff"/>
                </a:solidFill>
                <a:latin typeface="Tahoma"/>
              </a:rPr>
              <a:t>Made By: Amber Hiller</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cbff"/>
                </a:solidFill>
                <a:latin typeface="Tahoma"/>
              </a:rPr>
              <a:t>Kierra White</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cbff"/>
                </a:solidFill>
                <a:latin typeface="Tahoma"/>
              </a:rPr>
              <a:t>Class: Physical Science</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cbff"/>
                </a:solidFill>
                <a:latin typeface="Tahoma"/>
              </a:rPr>
              <a:t>Period: 4th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cbff"/>
                </a:solidFill>
                <a:latin typeface="Tahoma"/>
              </a:rPr>
              <a:t>Teacher: Dr.Scear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ff"/>
                </a:solidFill>
                <a:latin typeface="Tahoma"/>
              </a:rPr>
              <a:t>Special and vulnerable</a:t>
            </a:r>
            <a:endParaRPr b="0" lang="en-US" sz="4400" spc="-1" strike="noStrike">
              <a:solidFill>
                <a:srgbClr val="ffffff"/>
              </a:solidFill>
              <a:latin typeface="Tahoma"/>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not just bout slowing the emissions of greenhouse gases.</a:t>
            </a:r>
            <a:endParaRPr b="0" lang="en-US" sz="3200" spc="-1" strike="noStrike">
              <a:solidFill>
                <a:srgbClr val="ffffff"/>
              </a:solidFill>
              <a:latin typeface="Tahoma"/>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atened with the possibility of extinction from rising ocean waters</a:t>
            </a:r>
            <a:endParaRPr b="0" lang="en-US" sz="3200" spc="-1" strike="noStrike">
              <a:solidFill>
                <a:srgbClr val="ffffff"/>
              </a:solidFill>
              <a:latin typeface="Tahoma"/>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y are like the canary in the coal mine in terms of the dramatic impact of climate change on a whole civilization of peo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ecial and Vulnerable</a:t>
            </a:r>
            <a:endParaRPr b="0" lang="en-US" sz="4400" spc="-1" strike="noStrike">
              <a:solidFill>
                <a:srgbClr val="ffffff"/>
              </a:solidFill>
              <a:latin typeface="Tahoma"/>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8000"/>
          </a:bodyPr>
          <a:p>
            <a:pPr marL="335880" indent="-3358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rvard University biological oceanographer James J. McCarthy past president of the American Association for the Advancement of Science. They didn’t cause the problem but they will be among the first to feel it. You might call this a cautionary tale of two countries with vastl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5:05:35Z</dcterms:created>
  <dc:creator>PA Department of Education</dc:creator>
  <dc:description/>
  <dc:language>en-US</dc:language>
  <cp:lastModifiedBy>PA Department of Education</cp:lastModifiedBy>
  <dcterms:modified xsi:type="dcterms:W3CDTF">2009-05-29T14:51:21Z</dcterms:modified>
  <cp:revision>3</cp:revision>
  <dc:subject/>
  <dc:title>The First Wave</dc:title>
</cp:coreProperties>
</file>